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C8E2C-DBAD-4013-A4FF-C7CB7679F1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www.flickr.com/photos/feuilllu/274659572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flickr.com/photos/feuilllu/274659572/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ierre Metiv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8500-9765-40CC-8202-40CE2247D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42AC-D967-4F76-B0B6-9C70C34F9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E58B-FF17-4D7A-B9C5-C8BCCA3D8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FF12-E664-4BB1-A7A6-0C67AE5E7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988F-1BF7-4483-9A98-F6F4144FF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B663-158A-4D76-84AC-008C9D0E2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D0CA-56A4-4512-8E83-3048A3287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9ADD-798D-412A-B17E-4BBEA433A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296F-4D69-4838-97C2-72FF45722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29D6-58EE-423B-ADAD-2EE5720D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75E8-2CB4-49B3-A3FC-1A805891E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1416-FEF1-41B6-B274-712F1A0F7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A36EF-7A23-4185-B051-0542CE6B9A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flickr.com/photos/feuilllu/274659572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990720" y="5029200"/>
            <a:ext cx="75438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My Media Life Is Like A Batt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9" name=""/>
          <p:cNvSpPr/>
          <p:nvPr/>
        </p:nvSpPr>
        <p:spPr>
          <a:xfrm>
            <a:off x="7543800" y="457200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649116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Photo by Pierre Metivier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flickr.com/photos/feuilllu/274659572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7T22:39:24Z</dcterms:created>
  <dc:creator>Your Name Here</dc:creator>
  <dc:description/>
  <dc:language>en-US</dc:language>
  <cp:lastModifiedBy>Your Name Here</cp:lastModifiedBy>
  <dcterms:modified xsi:type="dcterms:W3CDTF">2010-12-07T22:59:19Z</dcterms:modified>
  <cp:revision>2</cp:revision>
  <dc:subject/>
  <dc:title>Slide 1</dc:title>
</cp:coreProperties>
</file>